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4625-FC80-4A2B-971D-165D337D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DB60-C4B8-492A-97C3-D330281F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2022-04E7-4A95-89BC-F592CD5F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475D-1405-4254-86E9-BB81CD491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8CBE-893D-4D27-AC9B-6E3C71AD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B4D1-87BE-4937-8919-12613C5A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70D7-2690-49AF-8F8C-6E1840C9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74EB-AD36-42F4-A587-E6C0E9C1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B539-5E1D-4828-903D-FB73FF05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293E-E3F3-4C37-9089-2DBAF73D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D0EC-AF9E-4C2F-9A6B-F8DF469E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805B-4501-4B12-9AF4-95879A50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1FEB-17AF-4908-8B53-1E35A270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BE5F-BBA6-426C-AF39-54C8141D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6DE0-2003-4C16-8562-D4789D0E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3502-1F62-448A-AFCF-6A6F615C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77E4-C815-4079-80C5-DA506D2C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BEC6DA-C744-4EF6-98F6-475D4B0CE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482437-5256-4A8F-882D-A2DA4A35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264D98-EF99-4F49-85A2-6AD8C7D3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D076DD-AF11-49F0-8808-524A1737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036E70-3164-4575-96E8-C7F2F0C8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A2DD-05F8-43D1-98A0-8A0ECF45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AED672-A01C-470C-8808-FBA72FF2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350A22-19BB-41B5-ABD9-E2ADAB50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E0CA03-0E57-493E-B93E-E61BE7C8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40BB75-15EA-4F0D-821D-B1215CE8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D1457C-7629-4E81-A1BC-058F8B16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F2D679-9A93-4688-913D-F2254167D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057BD1-DFAF-4094-AEF1-81E49F17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9ADC1-94D6-45BD-A15E-C6A75B403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B5C5B-8509-49B7-A5BC-5018CC41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47896-4BEB-48AD-BBA3-2C24ACEB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0555-E284-465B-B762-7A882E80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B4D35-B596-461D-B194-1EBEEC34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BAEE7-275F-4B30-B18E-82EF2688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4BADD-0ADD-407B-B9B7-87029EB3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A452A-3530-44DC-9AAA-E5B3A26A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38133-CFC4-4FA1-83B5-3D57A040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7FC62-8E53-43C1-B2E7-40F2E0D3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954A2-17B3-40E2-A389-1C9DCAD5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E88E2-251B-45B2-B453-7E4BB1BF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E692B-E0BE-42BA-AA28-E60DAB5F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8AD7C6-C4C2-4A08-9093-C5A77E999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255A-AE9F-4150-A8FC-B653D136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9D8580-441F-435F-AD23-3179D9A2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A3F9CF-ABA0-4D69-9420-59883C92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EBBD28-9455-4362-A57C-0830C1E8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459AC0-48A7-4682-BAC4-4750D73A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529712-B44F-4272-80EC-BD95B8FA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121536-C144-48C2-A66A-A20C1751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10F61C-8204-4220-B178-072D2885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995287-9DC4-4D0C-A37D-2591BCF4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043D76-80B7-4CE0-A648-007D13DE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75B21B-FFFE-4F11-A339-CA2B65C7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2C96-44AC-427D-8DC1-A2988481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0B049E-6BD9-48A4-BB79-EF99AD8C1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412E3D-75D5-4E4A-A1FA-EAB72B001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0D2F65-BE83-45AC-9C17-C93FCFAD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232233-5FA5-400B-99EB-081AD074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6E21BE-1FA1-4B0B-B86D-63EE7949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40A5EE-FB86-4B8E-8510-54D877CA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0A8F39-9E47-4C0B-A3A4-DF2AEA7C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205B9F-8D28-4F3B-B278-C533267D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F933E8-AB7F-4631-957B-3E72D640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C84BF2-73A0-478A-8346-3966FC0D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31FA-29D1-43D5-80A4-31DAA829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B22C26-FEEE-47DF-A530-0338BA03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5F699C-CC59-494F-8CA5-1921FD30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7C25B4-B9C7-4EA5-896E-A59DBDA3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C9C306-41B9-48BD-B1C8-EF4F2756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ACC58D-C1A6-43FD-8831-5A0DF902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18AF14-7639-4E7F-BE63-1A4849B7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11A6AC-7E10-4C07-85A8-88DD320E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ED2420-609A-4C1B-999A-6B4BB2E6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EF4064-360B-4DA9-AD68-EA6AC94C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2C06BE-94B3-4408-AC8A-776EAE00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AA94-396D-4E06-98CD-42516405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4B69EE-A081-4CC1-875F-82AD96EC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9DAEEE-8BEE-4F4D-9ED5-08538381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F19D21-41BB-4493-B947-706029E2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4F260C-95CF-4FE6-996F-EA4BA05C7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51B537-D481-4770-AD27-BE168449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E236-D698-404C-BC28-092D4FE4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517A-9490-447C-9E7F-C5C7586FF96F}" type="slidenum">
              <a:rPr b="1" lang="en-SG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C174-22FD-4F55-96D2-BD5695347335}" type="slidenum">
              <a:rPr b="1" lang="en-SG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4029-99BF-4DC5-80B4-A623273DC7D2}" type="slidenum">
              <a:rPr b="1" lang="en-SG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9911-10A1-45E4-8DEE-C02A6FF940CD}" type="slidenum">
              <a:rPr b="1" lang="en-SG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2666-5C4A-40AE-A102-E8DD48A3312E}" type="slidenum">
              <a:rPr b="1" lang="en-SG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A2B1-E7CE-41E1-81D9-882B7200EFEC}" type="slidenum">
              <a:rPr b="1" lang="en-SG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613F-BDB8-4DEB-B38B-12C356D007B4}" type="slidenum">
              <a:rPr b="1" lang="en-SG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1857240"/>
            <a:ext cx="617220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5f6d"/>
                </a:solidFill>
                <a:latin typeface="Century Schoolbook"/>
              </a:rPr>
              <a:t>VOLUME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2285640" y="2928960"/>
            <a:ext cx="61722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A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 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B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C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For glasses A, B, C and D, we say that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Glass D ha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the greatest volume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of water.  </a:t>
            </a:r>
            <a:r>
              <a:rPr b="1" lang="en-US" sz="1800" spc="-1" strike="noStrike">
                <a:solidFill>
                  <a:srgbClr val="7030a0"/>
                </a:solidFill>
                <a:latin typeface="Century Schoolbook"/>
              </a:rPr>
              <a:t>OR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Glass D ha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the most amount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of wat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Glass A ha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the smallest volume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of water.  </a:t>
            </a:r>
            <a:r>
              <a:rPr b="1" lang="en-US" sz="1800" spc="-1" strike="noStrike">
                <a:solidFill>
                  <a:srgbClr val="7030a0"/>
                </a:solidFill>
                <a:latin typeface="Century Schoolbook"/>
              </a:rPr>
              <a:t>OR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Glass A ha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the least amount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of water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Picture 2" descr="C:\Users\NTUuser\Desktop\2008_08_17\volume 5.jpg"/>
          <p:cNvPicPr/>
          <p:nvPr/>
        </p:nvPicPr>
        <p:blipFill>
          <a:blip r:embed="rId1"/>
          <a:stretch/>
        </p:blipFill>
        <p:spPr>
          <a:xfrm>
            <a:off x="2786040" y="1643040"/>
            <a:ext cx="2786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285640" y="4000320"/>
            <a:ext cx="61722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Now, answer these questions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Jug _______ ha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the most amount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of water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Jug _______ ha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the least amount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of water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Jug A contains ____ more glasses of water than Jug B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Jug B contains ____ fewer glasses of water than Jug C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7" name="Picture 2" descr="C:\Users\NTUuser\Desktop\2008_08_17\volume 6.jpg"/>
          <p:cNvPicPr/>
          <p:nvPr/>
        </p:nvPicPr>
        <p:blipFill>
          <a:blip r:embed="rId1"/>
          <a:stretch/>
        </p:blipFill>
        <p:spPr>
          <a:xfrm>
            <a:off x="2571840" y="1285920"/>
            <a:ext cx="328608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2285640" y="4000320"/>
            <a:ext cx="61722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Now, answer these questions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_______ ha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the greatest volume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of water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_______ ha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the smallest volume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of water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flask contains ____ more glasses of water than the jug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mug contains ____ fewer glasses of water than the jug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flask contains ____ more glasses of water than the mug and jug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2" descr="C:\Users\NTUuser\Desktop\2008_08_17\volume 4.jpg"/>
          <p:cNvPicPr/>
          <p:nvPr/>
        </p:nvPicPr>
        <p:blipFill>
          <a:blip r:embed="rId1"/>
          <a:stretch/>
        </p:blipFill>
        <p:spPr>
          <a:xfrm>
            <a:off x="2286000" y="1143000"/>
            <a:ext cx="40752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5640" y="1857240"/>
            <a:ext cx="617220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Pictures are from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My Pals are Here! Maths 2B Textbook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My Pals are Here! Maths 2B Workbook Part 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2285640" y="3285720"/>
            <a:ext cx="6172200" cy="29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A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B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amount of water is called th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volume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of the water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We say that Containers A, B and C have th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same volume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of water if they contain the same amount of water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2" descr="C:\Users\NTUuser\Desktop\2008_08_17\volume 2.jpg"/>
          <p:cNvPicPr/>
          <p:nvPr/>
        </p:nvPicPr>
        <p:blipFill>
          <a:blip r:embed="rId1"/>
          <a:stretch/>
        </p:blipFill>
        <p:spPr>
          <a:xfrm>
            <a:off x="2928960" y="2071800"/>
            <a:ext cx="706320" cy="12430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C:\Users\NTUuser\Desktop\2008_08_17\volume 2.jpg"/>
          <p:cNvPicPr/>
          <p:nvPr/>
        </p:nvPicPr>
        <p:blipFill>
          <a:blip r:embed="rId2"/>
          <a:stretch/>
        </p:blipFill>
        <p:spPr>
          <a:xfrm>
            <a:off x="4071960" y="2071800"/>
            <a:ext cx="706320" cy="12430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C:\Users\NTUuser\Desktop\2008_08_17\volume 2.jpg"/>
          <p:cNvPicPr/>
          <p:nvPr/>
        </p:nvPicPr>
        <p:blipFill>
          <a:blip r:embed="rId3"/>
          <a:stretch/>
        </p:blipFill>
        <p:spPr>
          <a:xfrm>
            <a:off x="5214960" y="2071800"/>
            <a:ext cx="70632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3285720"/>
            <a:ext cx="6172200" cy="29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A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B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Container A contains less water than Container B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Container B contains more water than Container A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2" descr="C:\Users\NTUuser\Desktop\2008_08_17\volume 2.jpg"/>
          <p:cNvPicPr/>
          <p:nvPr/>
        </p:nvPicPr>
        <p:blipFill>
          <a:blip r:embed="rId1"/>
          <a:stretch/>
        </p:blipFill>
        <p:spPr>
          <a:xfrm>
            <a:off x="2928960" y="2071800"/>
            <a:ext cx="706320" cy="1243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C:\Users\NTUuser\Desktop\2008_08_17\volume 2.jpg"/>
          <p:cNvPicPr/>
          <p:nvPr/>
        </p:nvPicPr>
        <p:blipFill>
          <a:blip r:embed="rId2"/>
          <a:stretch/>
        </p:blipFill>
        <p:spPr>
          <a:xfrm>
            <a:off x="4071960" y="1357200"/>
            <a:ext cx="70632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2285640" y="3285720"/>
            <a:ext cx="6172200" cy="29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A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B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We say that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A i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less than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B.   </a:t>
            </a:r>
            <a:r>
              <a:rPr b="1" lang="en-US" sz="1800" spc="-1" strike="noStrike">
                <a:solidFill>
                  <a:srgbClr val="7030a0"/>
                </a:solidFill>
                <a:latin typeface="Century Schoolbook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A i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smaller than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B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2" descr="C:\Users\NTUuser\Desktop\2008_08_17\volume 2.jpg"/>
          <p:cNvPicPr/>
          <p:nvPr/>
        </p:nvPicPr>
        <p:blipFill>
          <a:blip r:embed="rId1"/>
          <a:stretch/>
        </p:blipFill>
        <p:spPr>
          <a:xfrm>
            <a:off x="2928960" y="2071800"/>
            <a:ext cx="706320" cy="12430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C:\Users\NTUuser\Desktop\2008_08_17\volume 2.jpg"/>
          <p:cNvPicPr/>
          <p:nvPr/>
        </p:nvPicPr>
        <p:blipFill>
          <a:blip r:embed="rId2"/>
          <a:stretch/>
        </p:blipFill>
        <p:spPr>
          <a:xfrm>
            <a:off x="4071960" y="1357200"/>
            <a:ext cx="70632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2285640" y="3285720"/>
            <a:ext cx="6172200" cy="29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A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B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We say that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B i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more than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A.   </a:t>
            </a:r>
            <a:r>
              <a:rPr b="1" lang="en-US" sz="1800" spc="-1" strike="noStrike">
                <a:solidFill>
                  <a:srgbClr val="7030a0"/>
                </a:solidFill>
                <a:latin typeface="Century Schoolbook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B i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greater than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A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2" descr="C:\Users\NTUuser\Desktop\2008_08_17\volume 2.jpg"/>
          <p:cNvPicPr/>
          <p:nvPr/>
        </p:nvPicPr>
        <p:blipFill>
          <a:blip r:embed="rId1"/>
          <a:stretch/>
        </p:blipFill>
        <p:spPr>
          <a:xfrm>
            <a:off x="2928960" y="2071800"/>
            <a:ext cx="706320" cy="12430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Users\NTUuser\Desktop\2008_08_17\volume 2.jpg"/>
          <p:cNvPicPr/>
          <p:nvPr/>
        </p:nvPicPr>
        <p:blipFill>
          <a:blip r:embed="rId2"/>
          <a:stretch/>
        </p:blipFill>
        <p:spPr>
          <a:xfrm>
            <a:off x="4071960" y="1357200"/>
            <a:ext cx="70632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2285640" y="3285720"/>
            <a:ext cx="6172200" cy="29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C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D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Now, answer these questions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_____ i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more than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the volume of water in Container ______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_____ i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less than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the volume of water in Container ______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2" descr="C:\Users\NTUuser\Desktop\2008_08_17\volume 2.jpg"/>
          <p:cNvPicPr/>
          <p:nvPr/>
        </p:nvPicPr>
        <p:blipFill>
          <a:blip r:embed="rId1"/>
          <a:stretch/>
        </p:blipFill>
        <p:spPr>
          <a:xfrm>
            <a:off x="2928960" y="2071800"/>
            <a:ext cx="706320" cy="12430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C:\Users\NTUuser\Desktop\2008_08_17\volume 2.jpg"/>
          <p:cNvPicPr/>
          <p:nvPr/>
        </p:nvPicPr>
        <p:blipFill>
          <a:blip r:embed="rId2"/>
          <a:stretch/>
        </p:blipFill>
        <p:spPr>
          <a:xfrm>
            <a:off x="4000680" y="2071800"/>
            <a:ext cx="121428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2285640" y="3285720"/>
            <a:ext cx="6172200" cy="29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E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F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Now, answer these questions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_____ i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greater than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______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_____ i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smaller than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______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2" descr="C:\Users\NTUuser\Desktop\2008_08_17\volume 2.jpg"/>
          <p:cNvPicPr/>
          <p:nvPr/>
        </p:nvPicPr>
        <p:blipFill>
          <a:blip r:embed="rId1"/>
          <a:stretch/>
        </p:blipFill>
        <p:spPr>
          <a:xfrm>
            <a:off x="4286160" y="2000160"/>
            <a:ext cx="706680" cy="1243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C:\Users\NTUuser\Desktop\2008_08_17\volume 2.jpg"/>
          <p:cNvPicPr/>
          <p:nvPr/>
        </p:nvPicPr>
        <p:blipFill>
          <a:blip r:embed="rId2"/>
          <a:stretch/>
        </p:blipFill>
        <p:spPr>
          <a:xfrm>
            <a:off x="2714760" y="1500120"/>
            <a:ext cx="121428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2285640" y="4571640"/>
            <a:ext cx="6172200" cy="16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For Kettles A and B, we say that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Kettle A contains 2 more glasses of water than Kettle B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Kettle B contains 2 fewer glasses of water than Kettle A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Picture 2" descr="C:\Users\NTUuser\Desktop\2008_08_17\volume 3.jpg"/>
          <p:cNvPicPr/>
          <p:nvPr/>
        </p:nvPicPr>
        <p:blipFill>
          <a:blip r:embed="rId1"/>
          <a:stretch/>
        </p:blipFill>
        <p:spPr>
          <a:xfrm>
            <a:off x="2286000" y="1285920"/>
            <a:ext cx="44132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2285640" y="2500200"/>
            <a:ext cx="6172200" cy="38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f6d"/>
                </a:solidFill>
                <a:latin typeface="Century Schoolbook"/>
              </a:rPr>
              <a:t>So far, we have been comparing the volumes of 2 containe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f6d"/>
                </a:solidFill>
                <a:latin typeface="Century Schoolbook"/>
              </a:rPr>
              <a:t>Now, let’s look at how we compare the volumes of 3 or more containe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05:00:59Z</dcterms:created>
  <dc:creator>NTUuser</dc:creator>
  <dc:description/>
  <dc:language>en-US</dc:language>
  <cp:lastModifiedBy>NTUuser</cp:lastModifiedBy>
  <dcterms:modified xsi:type="dcterms:W3CDTF">2009-01-03T12:53:48Z</dcterms:modified>
  <cp:revision>16</cp:revision>
  <dc:subject/>
  <dc:title>Volume</dc:title>
</cp:coreProperties>
</file>