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063-6B76-43BD-B00A-27A1CD1B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D5C-D90C-4B6E-AB4A-34B69E2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A5F-7511-4256-9ACB-7D7818AD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D22-CD7A-43EE-9869-79284CFB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C9C-3D01-4A8C-A8A0-CD37F990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415D-1ED1-4FCF-BCFF-DE5AA1E6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8952-0831-4723-BD9D-BBD2FAFB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7432-2D57-4E2B-8028-9A8EEE70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B121-7FEA-4946-8596-064A6D3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ED35-40C7-498C-AE5F-237D2EE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2872-B7AC-4062-8B53-CFB4B04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6AD-5300-461E-88C2-41988234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B3BB-0904-464E-ACAB-96FAA0F6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D4DC-4FE8-4310-9E14-8C41E90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BDC0-515B-496F-9CF0-DDF8ECFF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5F0E-D957-41D5-8BF9-FB356337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5A1-9FE0-40C8-AF06-8BF8C8A6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393-3A6B-4DD2-B1F7-04BFA417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D8D-4E49-4B89-9021-87355C0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03B-5C17-4A4D-BDDA-E4287BA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CC1-9CB0-4AF3-96DB-6C062470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763-8E42-4A87-AD89-B55465F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707-D536-4AC1-9427-CC2A3DA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2D1-4E9D-46F6-AD49-00B56CDA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A11-A34F-4928-875F-9C7FF50BBD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1CB-B4D1-4141-AAA6-BE4F942F66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rightgroup.com/download/cp/g7_geometry.pdf" TargetMode="External"/><Relationship Id="rId3" Type="http://schemas.openxmlformats.org/officeDocument/2006/relationships/hyperlink" Target="http://www.eduplace.com/state/nc/hmm/tools/6.html" TargetMode="External"/><Relationship Id="rId4" Type="http://schemas.openxmlformats.org/officeDocument/2006/relationships/hyperlink" Target="http://www.tki.org.nz/r/esol/esolonline/primary_mainstream/classroom/units/foil_fun/home_e.php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ometric Sha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8960" y="54860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Jane Lo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048120"/>
            <a:ext cx="1218960" cy="12952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505320"/>
            <a:ext cx="914400" cy="18288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9400200">
            <a:off x="5562360" y="3352320"/>
            <a:ext cx="1295280" cy="6098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2590920"/>
            <a:ext cx="121932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267080"/>
            <a:ext cx="20574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570200">
            <a:off x="5333400" y="2437920"/>
            <a:ext cx="1066680" cy="685800"/>
          </a:xfrm>
          <a:prstGeom prst="parallelogram">
            <a:avLst>
              <a:gd name="adj" fmla="val 388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ebsites for Additional Expl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quivalent Nets for Rectangular Prism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wrightgroup.com/download/cp/g7_geometry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s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eduplace.com/state/nc/hmm/tools/6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OL On-Line Foil Fu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tki.org.nz/r/esol/esolonline/primary_mainstream/classroom/units/foil_fun/home_e.ph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ike or Differen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plain how cones and cylinders are alike and differ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what ways are right prisms and regular pyramids alike? differ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029200" y="1849320"/>
            <a:ext cx="1752480" cy="157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20244600">
            <a:off x="7009920" y="3886200"/>
            <a:ext cx="1765440" cy="196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0120" y="1828800"/>
            <a:ext cx="1143000" cy="1371600"/>
          </a:xfrm>
          <a:prstGeom prst="can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quarePyramid"/>
          <p:cNvPicPr/>
          <p:nvPr/>
        </p:nvPicPr>
        <p:blipFill>
          <a:blip r:embed="rId4"/>
          <a:stretch/>
        </p:blipFill>
        <p:spPr>
          <a:xfrm>
            <a:off x="4724280" y="4038480"/>
            <a:ext cx="19814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662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ne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a two-dimensional figure that, when folded, forms a three-dimensional figu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3733920"/>
            <a:ext cx="990720" cy="9903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962520" y="3048120"/>
            <a:ext cx="1828800" cy="2438280"/>
            <a:chOff x="3962520" y="3048120"/>
            <a:chExt cx="1828800" cy="2438280"/>
          </a:xfrm>
        </p:grpSpPr>
        <p:sp>
          <p:nvSpPr>
            <p:cNvPr id="103" name=""/>
            <p:cNvSpPr/>
            <p:nvPr/>
          </p:nvSpPr>
          <p:spPr>
            <a:xfrm>
              <a:off x="4572000" y="30481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62520" y="365760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4267080"/>
              <a:ext cx="609480" cy="6098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1480" y="3657600"/>
              <a:ext cx="60984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4876920"/>
              <a:ext cx="609480" cy="6094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16765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ctangular Pr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053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net for the yellow rectangular prism is illustrated below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you find other nets of the prism below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209680" y="4038480"/>
            <a:ext cx="4548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宋体"/>
              </a:rPr>
              <a:t>Attributes of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2133720"/>
            <a:ext cx="7497000" cy="2406600"/>
            <a:chOff x="1143000" y="2133720"/>
            <a:chExt cx="7497000" cy="2406600"/>
          </a:xfrm>
        </p:grpSpPr>
        <p:sp>
          <p:nvSpPr>
            <p:cNvPr id="115" name=""/>
            <p:cNvSpPr/>
            <p:nvPr/>
          </p:nvSpPr>
          <p:spPr>
            <a:xfrm>
              <a:off x="3591360" y="2940120"/>
              <a:ext cx="1558080" cy="1600200"/>
            </a:xfrm>
            <a:prstGeom prst="cube">
              <a:avLst>
                <a:gd name="adj" fmla="val 2500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001120" y="3473280"/>
              <a:ext cx="1186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1400" y="3276720"/>
              <a:ext cx="6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481640" y="2330280"/>
              <a:ext cx="815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20520" y="213372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dge(where two fac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071880" y="3320640"/>
              <a:ext cx="51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3000" y="3397320"/>
              <a:ext cx="224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rt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where three 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re edges me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Cub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968480"/>
            <a:ext cx="7853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-4086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a total of 11 distinct (different) nets for a cub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08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CubeNets"/>
          <p:cNvPicPr/>
          <p:nvPr/>
        </p:nvPicPr>
        <p:blipFill>
          <a:blip r:embed="rId2"/>
          <a:stretch/>
        </p:blipFill>
        <p:spPr>
          <a:xfrm>
            <a:off x="1143000" y="2895480"/>
            <a:ext cx="7010280" cy="3210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477120" y="457200"/>
            <a:ext cx="914400" cy="9907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Regular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6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ular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trahedron - All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 the third net for a regular pyramid (tetrahedr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76920" y="2666880"/>
            <a:ext cx="2209680" cy="198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523880" y="3124080"/>
            <a:ext cx="25146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are pyram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ntahedron - Base is a square and faces are triang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SquarePyramid"/>
          <p:cNvPicPr/>
          <p:nvPr/>
        </p:nvPicPr>
        <p:blipFill>
          <a:blip r:embed="rId2"/>
          <a:stretch/>
        </p:blipFill>
        <p:spPr>
          <a:xfrm>
            <a:off x="5410080" y="3276720"/>
            <a:ext cx="2438640" cy="2228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219320" y="32767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ix possible nets for a square pyrami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4419720" cy="3272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s for a Square Pyram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56:57Z</dcterms:created>
  <dc:creator>Department of IIT</dc:creator>
  <dc:description/>
  <dc:language>en-US</dc:language>
  <cp:lastModifiedBy>S6944451B</cp:lastModifiedBy>
  <dcterms:modified xsi:type="dcterms:W3CDTF">2008-07-01T07:22:46Z</dcterms:modified>
  <cp:revision>32</cp:revision>
  <dc:subject/>
  <dc:title>Implementing the 6th Grade GPS via Geometric Shapes</dc:title>
</cp:coreProperties>
</file>