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F24-C69E-495E-A293-F8E7C880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ED9-7F60-4395-9DBF-459197A4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E87-559B-4548-9792-39CE3739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C5D-D685-4EE7-B75E-319ACE1B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F8D-C97E-401A-8691-60936366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060-5E41-4526-9DDF-87D234A5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7FA-AB34-403E-A5CF-3FEFB68E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82C-9136-470A-A672-5C1CF029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998-8811-4157-B899-0F5ECF8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835-8AEA-41B1-801F-F84860C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D61-B81A-4301-BFB5-247F9FC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EFC-1A7F-46E5-B83D-71EB1B60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5D7-B3CB-422D-BD3C-F3EDA0435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05160" y="2556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80" y="1798560"/>
            <a:ext cx="912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ecto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nes with length (magnitude) and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10000" y="3086280"/>
            <a:ext cx="3013560" cy="1856880"/>
            <a:chOff x="810000" y="3086280"/>
            <a:chExt cx="3013560" cy="1856880"/>
          </a:xfrm>
        </p:grpSpPr>
        <p:grpSp>
          <p:nvGrpSpPr>
            <p:cNvPr id="44" name=""/>
            <p:cNvGrpSpPr/>
            <p:nvPr/>
          </p:nvGrpSpPr>
          <p:grpSpPr>
            <a:xfrm>
              <a:off x="1150920" y="3482280"/>
              <a:ext cx="2232000" cy="1223640"/>
              <a:chOff x="1150920" y="3482280"/>
              <a:chExt cx="2232000" cy="1223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150920" y="3482280"/>
                <a:ext cx="2232000" cy="1223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014560" y="3985560"/>
                <a:ext cx="468360" cy="25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810000" y="4422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86880" y="3086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89440" y="33084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08480" y="3049560"/>
                <a:ext cx="860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1" name=""/>
          <p:cNvGrpSpPr/>
          <p:nvPr/>
        </p:nvGrpSpPr>
        <p:grpSpPr>
          <a:xfrm>
            <a:off x="1258920" y="4487760"/>
            <a:ext cx="2232000" cy="1425600"/>
            <a:chOff x="1258920" y="4487760"/>
            <a:chExt cx="2232000" cy="1425600"/>
          </a:xfrm>
        </p:grpSpPr>
        <p:grpSp>
          <p:nvGrpSpPr>
            <p:cNvPr id="52" name=""/>
            <p:cNvGrpSpPr/>
            <p:nvPr/>
          </p:nvGrpSpPr>
          <p:grpSpPr>
            <a:xfrm>
              <a:off x="1258920" y="4689360"/>
              <a:ext cx="2232000" cy="1224000"/>
              <a:chOff x="1258920" y="4689360"/>
              <a:chExt cx="2232000" cy="122400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1258920" y="4689360"/>
                <a:ext cx="2232000" cy="12240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122560" y="5192280"/>
                <a:ext cx="468360" cy="25236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089080" y="4487760"/>
              <a:ext cx="469800" cy="921240"/>
              <a:chOff x="2089080" y="4487760"/>
              <a:chExt cx="469800" cy="921240"/>
            </a:xfrm>
          </p:grpSpPr>
          <p:sp>
            <p:nvSpPr>
              <p:cNvPr id="56" name=""/>
              <p:cNvSpPr/>
              <p:nvPr/>
            </p:nvSpPr>
            <p:spPr>
              <a:xfrm>
                <a:off x="2089080" y="4487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08160" y="4766400"/>
                <a:ext cx="45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4273560" y="4370400"/>
            <a:ext cx="1739160" cy="968040"/>
            <a:chOff x="4273560" y="4370400"/>
            <a:chExt cx="1739160" cy="968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73560" y="4370400"/>
                  <a:ext cx="124308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" name=""/>
            <p:cNvGrpSpPr/>
            <p:nvPr/>
          </p:nvGrpSpPr>
          <p:grpSpPr>
            <a:xfrm>
              <a:off x="5541480" y="4441680"/>
              <a:ext cx="471240" cy="896760"/>
              <a:chOff x="5541480" y="4441680"/>
              <a:chExt cx="471240" cy="896760"/>
            </a:xfrm>
          </p:grpSpPr>
          <p:sp>
            <p:nvSpPr>
              <p:cNvPr id="61" name=""/>
              <p:cNvSpPr/>
              <p:nvPr/>
            </p:nvSpPr>
            <p:spPr>
              <a:xfrm>
                <a:off x="5541480" y="4441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5240" y="469584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39960" y="1090440"/>
            <a:ext cx="454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ome terms to kno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B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4, 6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26920" y="1736640"/>
                <a:ext cx="2089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86200" y="1808280"/>
                <a:ext cx="24130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89520" y="3365640"/>
                <a:ext cx="162720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40880" y="1052640"/>
            <a:ext cx="4649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ar multi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C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5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25640" y="-19080"/>
                <a:ext cx="23418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142920" y="159228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980000" y="1773360"/>
            <a:ext cx="2508840" cy="3365280"/>
            <a:chOff x="1980000" y="1773360"/>
            <a:chExt cx="2508840" cy="3365280"/>
          </a:xfrm>
        </p:grpSpPr>
        <p:grpSp>
          <p:nvGrpSpPr>
            <p:cNvPr id="236" name=""/>
            <p:cNvGrpSpPr/>
            <p:nvPr/>
          </p:nvGrpSpPr>
          <p:grpSpPr>
            <a:xfrm>
              <a:off x="2409840" y="2134440"/>
              <a:ext cx="1548720" cy="2591640"/>
              <a:chOff x="2409840" y="2134440"/>
              <a:chExt cx="1548720" cy="259164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9840" y="2134440"/>
                <a:ext cx="1548720" cy="259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08880" y="3125880"/>
                <a:ext cx="324720" cy="534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980000" y="1773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2360" y="4618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09840" y="2097000"/>
            <a:ext cx="0" cy="2592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360" y="31766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09840" y="4689360"/>
            <a:ext cx="14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5280" y="46530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64280" y="88920"/>
                <a:ext cx="15760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276720" y="1814400"/>
                <a:ext cx="56941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gnitud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40400" y="2852640"/>
                <a:ext cx="2530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51560" y="3753000"/>
                <a:ext cx="22892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units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08360" y="728640"/>
                <a:ext cx="248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254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34160" y="3406680"/>
            <a:ext cx="1195920" cy="1672920"/>
            <a:chOff x="2234160" y="3406680"/>
            <a:chExt cx="1195920" cy="1672920"/>
          </a:xfrm>
        </p:grpSpPr>
        <p:grpSp>
          <p:nvGrpSpPr>
            <p:cNvPr id="260" name=""/>
            <p:cNvGrpSpPr/>
            <p:nvPr/>
          </p:nvGrpSpPr>
          <p:grpSpPr>
            <a:xfrm>
              <a:off x="2341440" y="3598200"/>
              <a:ext cx="706680" cy="981000"/>
              <a:chOff x="2341440" y="3598200"/>
              <a:chExt cx="706680" cy="9810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341440" y="3598200"/>
                <a:ext cx="706680" cy="981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614680" y="4001400"/>
                <a:ext cx="148320" cy="2019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234160" y="4559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13200" y="3406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11640" y="116064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5440" y="2421000"/>
            <a:ext cx="333072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58920" y="189720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1657440" y="2006640"/>
            <a:ext cx="2147400" cy="2501640"/>
            <a:chOff x="1657440" y="2006640"/>
            <a:chExt cx="2147400" cy="2501640"/>
          </a:xfrm>
        </p:grpSpPr>
        <p:grpSp>
          <p:nvGrpSpPr>
            <p:cNvPr id="270" name=""/>
            <p:cNvGrpSpPr/>
            <p:nvPr/>
          </p:nvGrpSpPr>
          <p:grpSpPr>
            <a:xfrm>
              <a:off x="1892160" y="2409480"/>
              <a:ext cx="1535040" cy="2053800"/>
              <a:chOff x="1892160" y="2409480"/>
              <a:chExt cx="1535040" cy="20538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1892160" y="240948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486160" y="325404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657440" y="398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360" y="200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06560" y="446724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6360" y="4525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7640" y="3301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17480" y="2438280"/>
            <a:ext cx="3240" cy="20512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992920" y="2016000"/>
                <a:ext cx="30081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ent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60720" y="105264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ent of v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164360" y="4226040"/>
                <a:ext cx="907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128000" y="2924280"/>
                <a:ext cx="186192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064360" y="4621320"/>
                <a:ext cx="812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504360" y="981000"/>
            <a:ext cx="389016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inear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7000" y="4772160"/>
            <a:ext cx="2711160" cy="1865520"/>
            <a:chOff x="297000" y="4772160"/>
            <a:chExt cx="2711160" cy="1865520"/>
          </a:xfrm>
        </p:grpSpPr>
        <p:grpSp>
          <p:nvGrpSpPr>
            <p:cNvPr id="287" name=""/>
            <p:cNvGrpSpPr/>
            <p:nvPr/>
          </p:nvGrpSpPr>
          <p:grpSpPr>
            <a:xfrm>
              <a:off x="623160" y="4825800"/>
              <a:ext cx="1999440" cy="1346400"/>
              <a:chOff x="623160" y="4825800"/>
              <a:chExt cx="1999440" cy="134640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623160" y="4825800"/>
                <a:ext cx="1999440" cy="1346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397160" y="5377320"/>
                <a:ext cx="419760" cy="278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21194400">
              <a:off x="326160" y="609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194400">
              <a:off x="2522520" y="4797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1960" y="1628640"/>
            <a:ext cx="5081760" cy="52056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e on the same straigh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680000" y="4021200"/>
                <a:ext cx="9079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157640" y="503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240" y="2168640"/>
            <a:ext cx="7372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 Q and R are col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 P, Q and R lie on the sam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040" y="3105000"/>
            <a:ext cx="4715280" cy="3112920"/>
            <a:chOff x="59040" y="3105000"/>
            <a:chExt cx="4715280" cy="3112920"/>
          </a:xfrm>
        </p:grpSpPr>
        <p:grpSp>
          <p:nvGrpSpPr>
            <p:cNvPr id="297" name=""/>
            <p:cNvGrpSpPr/>
            <p:nvPr/>
          </p:nvGrpSpPr>
          <p:grpSpPr>
            <a:xfrm>
              <a:off x="503280" y="3105000"/>
              <a:ext cx="4271040" cy="2768040"/>
              <a:chOff x="503280" y="3105000"/>
              <a:chExt cx="4271040" cy="27680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03280" y="3317760"/>
                <a:ext cx="3816000" cy="2555280"/>
                <a:chOff x="503280" y="3317760"/>
                <a:chExt cx="3816000" cy="255528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03280" y="3317760"/>
                  <a:ext cx="3816000" cy="25552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979640" y="4367880"/>
                  <a:ext cx="800640" cy="5266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337640" y="3105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040" y="5697360"/>
              <a:ext cx="416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4076640"/>
                <a:ext cx="907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580000" y="4148280"/>
                <a:ext cx="107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0116E-006 L 0.0158 0.03653 E">
                                      <p:cBhvr>
                                        <p:cTn id="43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0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287280" y="2878200"/>
            <a:ext cx="2928960" cy="1386000"/>
            <a:chOff x="287280" y="2878200"/>
            <a:chExt cx="2928960" cy="1386000"/>
          </a:xfrm>
        </p:grpSpPr>
        <p:sp>
          <p:nvSpPr>
            <p:cNvPr id="311" name=""/>
            <p:cNvSpPr/>
            <p:nvPr/>
          </p:nvSpPr>
          <p:spPr>
            <a:xfrm>
              <a:off x="287280" y="321300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411280" y="287820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003400" y="4491000"/>
                <a:ext cx="1163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45440" y="3176640"/>
            <a:ext cx="14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3440" y="3033720"/>
                <a:ext cx="1835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80000" y="4005360"/>
                <a:ext cx="2148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651640" y="490536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608800" y="5823000"/>
                <a:ext cx="1879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22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"/>
          <p:cNvGrpSpPr/>
          <p:nvPr/>
        </p:nvGrpSpPr>
        <p:grpSpPr>
          <a:xfrm>
            <a:off x="95400" y="2889360"/>
            <a:ext cx="3431160" cy="1385640"/>
            <a:chOff x="95400" y="2889360"/>
            <a:chExt cx="3431160" cy="1385640"/>
          </a:xfrm>
        </p:grpSpPr>
        <p:sp>
          <p:nvSpPr>
            <p:cNvPr id="326" name=""/>
            <p:cNvSpPr/>
            <p:nvPr/>
          </p:nvSpPr>
          <p:spPr>
            <a:xfrm>
              <a:off x="95400" y="3223800"/>
              <a:ext cx="25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-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3720" y="2889360"/>
                  <a:ext cx="94284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763640" y="4491000"/>
                <a:ext cx="1476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4645080" y="317664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010200" y="2995560"/>
                <a:ext cx="2954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37320" y="4005360"/>
                <a:ext cx="2147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796000" y="483084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788080" y="5697360"/>
                <a:ext cx="187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3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"/>
          <p:cNvSpPr/>
          <p:nvPr/>
        </p:nvSpPr>
        <p:spPr>
          <a:xfrm>
            <a:off x="1116000" y="317664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146400" y="2995560"/>
                <a:ext cx="2685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664000" y="3933720"/>
                <a:ext cx="2103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90640" y="4724280"/>
                <a:ext cx="1565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30520" y="5661000"/>
                <a:ext cx="1252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024440" y="5656320"/>
                <a:ext cx="1879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84720" y="4371840"/>
                <a:ext cx="1959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144000" y="4289400"/>
            <a:ext cx="5864040" cy="642600"/>
            <a:chOff x="144000" y="4289400"/>
            <a:chExt cx="5864040" cy="642600"/>
          </a:xfrm>
        </p:grpSpPr>
        <p:sp>
          <p:nvSpPr>
            <p:cNvPr id="67" name=""/>
            <p:cNvSpPr/>
            <p:nvPr/>
          </p:nvSpPr>
          <p:spPr>
            <a:xfrm>
              <a:off x="144000" y="4289400"/>
              <a:ext cx="267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Zero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1440" y="428940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r Null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6520" y="4902120"/>
            <a:ext cx="30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4400" y="907920"/>
            <a:ext cx="8244360" cy="1195560"/>
            <a:chOff x="104400" y="907920"/>
            <a:chExt cx="8244360" cy="1195560"/>
          </a:xfrm>
        </p:grpSpPr>
        <p:sp>
          <p:nvSpPr>
            <p:cNvPr id="71" name=""/>
            <p:cNvSpPr/>
            <p:nvPr/>
          </p:nvSpPr>
          <p:spPr>
            <a:xfrm>
              <a:off x="104400" y="1239840"/>
              <a:ext cx="731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gnitude of  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919600" y="1052640"/>
                  <a:ext cx="8604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345440" y="907920"/>
                  <a:ext cx="100332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-3600" y="2738520"/>
            <a:ext cx="9112680" cy="1482480"/>
            <a:chOff x="-3600" y="2738520"/>
            <a:chExt cx="9112680" cy="1482480"/>
          </a:xfrm>
        </p:grpSpPr>
        <p:sp>
          <p:nvSpPr>
            <p:cNvPr id="75" name=""/>
            <p:cNvSpPr/>
            <p:nvPr/>
          </p:nvSpPr>
          <p:spPr>
            <a:xfrm>
              <a:off x="-3600" y="3241440"/>
              <a:ext cx="84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irection is represented by column vect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8201160" y="2738520"/>
                  <a:ext cx="907920" cy="14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"/>
          <p:cNvGrpSpPr/>
          <p:nvPr/>
        </p:nvGrpSpPr>
        <p:grpSpPr>
          <a:xfrm>
            <a:off x="68040" y="2028960"/>
            <a:ext cx="8220600" cy="896760"/>
            <a:chOff x="68040" y="2028960"/>
            <a:chExt cx="8220600" cy="896760"/>
          </a:xfrm>
        </p:grpSpPr>
        <p:grpSp>
          <p:nvGrpSpPr>
            <p:cNvPr id="78" name=""/>
            <p:cNvGrpSpPr/>
            <p:nvPr/>
          </p:nvGrpSpPr>
          <p:grpSpPr>
            <a:xfrm>
              <a:off x="3485880" y="2028960"/>
              <a:ext cx="471240" cy="896760"/>
              <a:chOff x="3485880" y="2028960"/>
              <a:chExt cx="471240" cy="896760"/>
            </a:xfrm>
          </p:grpSpPr>
          <p:sp>
            <p:nvSpPr>
              <p:cNvPr id="79" name=""/>
              <p:cNvSpPr/>
              <p:nvPr/>
            </p:nvSpPr>
            <p:spPr>
              <a:xfrm>
                <a:off x="3485880" y="2028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9640" y="228312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598880" y="2095560"/>
              <a:ext cx="689760" cy="653400"/>
              <a:chOff x="7598880" y="2095560"/>
              <a:chExt cx="689760" cy="653400"/>
            </a:xfrm>
          </p:grpSpPr>
          <p:sp>
            <p:nvSpPr>
              <p:cNvPr id="82" name=""/>
              <p:cNvSpPr/>
              <p:nvPr/>
            </p:nvSpPr>
            <p:spPr>
              <a:xfrm>
                <a:off x="7716240" y="209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98880" y="2106360"/>
                <a:ext cx="6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  |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040" y="2131920"/>
              <a:ext cx="76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 magnitude of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2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|-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ositiv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1089000"/>
            <a:ext cx="6156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fore,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16000" y="26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-33480" y="3357720"/>
                <a:ext cx="4245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0" y="4289400"/>
                <a:ext cx="22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466520" y="390384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940360" y="3786120"/>
                <a:ext cx="24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688000" y="4689360"/>
                <a:ext cx="1298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710320" y="5478480"/>
                <a:ext cx="22827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0" y="5246640"/>
                <a:ext cx="2284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525920" y="2882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16720" y="2774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2089080" y="5991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65800" y="3429000"/>
                <a:ext cx="4498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00720" y="4325760"/>
                <a:ext cx="2506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35640" y="5154480"/>
                <a:ext cx="2238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087640" y="59911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a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2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-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440" y="2781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58920" y="2666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-70920" y="379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98680" y="3681360"/>
                <a:ext cx="2373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135080" y="4508640"/>
                <a:ext cx="1477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224000" y="5300640"/>
                <a:ext cx="2236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513680" y="27813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D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6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708360" y="2139840"/>
                <a:ext cx="1793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 ,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1116000" y="2023920"/>
            <a:ext cx="5364000" cy="3637080"/>
            <a:chOff x="1116000" y="2023920"/>
            <a:chExt cx="5364000" cy="3637080"/>
          </a:xfrm>
        </p:grpSpPr>
        <p:sp>
          <p:nvSpPr>
            <p:cNvPr id="391" name=""/>
            <p:cNvSpPr/>
            <p:nvPr/>
          </p:nvSpPr>
          <p:spPr>
            <a:xfrm>
              <a:off x="61210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73080" y="202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6000" y="2097000"/>
              <a:ext cx="5076720" cy="3564000"/>
              <a:chOff x="1116000" y="2097000"/>
              <a:chExt cx="5076720" cy="35640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837080" y="2133720"/>
                <a:ext cx="2361600" cy="2931840"/>
                <a:chOff x="1837080" y="2133720"/>
                <a:chExt cx="2361600" cy="29318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325600" y="2536560"/>
                  <a:ext cx="1535040" cy="2053800"/>
                  <a:chOff x="2325600" y="2536560"/>
                  <a:chExt cx="1535040" cy="205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V="1">
                    <a:off x="2325600" y="253656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2919600" y="338112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1837080" y="45450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781800" y="21337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303640" y="209700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16000" y="461628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0" y="800280"/>
            <a:ext cx="91440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vectors: always with respect to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you tell me what is the position vector of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56360" y="2060640"/>
                <a:ext cx="22939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47640" y="245736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548160" y="2573280"/>
                <a:ext cx="1827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87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position vector of any point, say P, is giv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971640" y="2457360"/>
            <a:ext cx="5364000" cy="3637080"/>
            <a:chOff x="971640" y="2457360"/>
            <a:chExt cx="5364000" cy="3637080"/>
          </a:xfrm>
        </p:grpSpPr>
        <p:sp>
          <p:nvSpPr>
            <p:cNvPr id="410" name=""/>
            <p:cNvSpPr/>
            <p:nvPr/>
          </p:nvSpPr>
          <p:spPr>
            <a:xfrm>
              <a:off x="5976720" y="508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8720" y="245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971640" y="2530440"/>
              <a:ext cx="5076720" cy="3564000"/>
              <a:chOff x="971640" y="2530440"/>
              <a:chExt cx="5076720" cy="356400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692720" y="2567160"/>
                <a:ext cx="2361600" cy="2931840"/>
                <a:chOff x="1692720" y="2567160"/>
                <a:chExt cx="2361600" cy="29318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181240" y="2970000"/>
                  <a:ext cx="1535040" cy="2053800"/>
                  <a:chOff x="2181240" y="2970000"/>
                  <a:chExt cx="1535040" cy="20538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2181240" y="297000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2775240" y="381456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1692720" y="497844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637440" y="2567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 flipV="1">
                <a:off x="2159280" y="253044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71640" y="504972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340000" y="1341360"/>
                <a:ext cx="1655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148360" y="907920"/>
                <a:ext cx="3584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25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024360" y="152280"/>
                <a:ext cx="2035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613080" y="116064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1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3080" y="20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03640" y="2528640"/>
            <a:ext cx="1535040" cy="2053800"/>
            <a:chOff x="2303640" y="2528640"/>
            <a:chExt cx="1535040" cy="2053800"/>
          </a:xfrm>
        </p:grpSpPr>
        <p:sp>
          <p:nvSpPr>
            <p:cNvPr id="431" name=""/>
            <p:cNvSpPr/>
            <p:nvPr/>
          </p:nvSpPr>
          <p:spPr>
            <a:xfrm flipV="1">
              <a:off x="2303640" y="2528640"/>
              <a:ext cx="1535040" cy="205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897640" y="3373200"/>
              <a:ext cx="321840" cy="42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837080" y="4545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81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03640" y="2097000"/>
            <a:ext cx="0" cy="35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6000" y="4616280"/>
            <a:ext cx="50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16360" y="2529000"/>
            <a:ext cx="1963080" cy="915840"/>
            <a:chOff x="3816360" y="2529000"/>
            <a:chExt cx="1963080" cy="915840"/>
          </a:xfrm>
        </p:grpSpPr>
        <p:grpSp>
          <p:nvGrpSpPr>
            <p:cNvPr id="438" name=""/>
            <p:cNvGrpSpPr/>
            <p:nvPr/>
          </p:nvGrpSpPr>
          <p:grpSpPr>
            <a:xfrm>
              <a:off x="3816360" y="2529000"/>
              <a:ext cx="1547640" cy="539640"/>
              <a:chOff x="3816360" y="2529000"/>
              <a:chExt cx="1547640" cy="539640"/>
            </a:xfrm>
          </p:grpSpPr>
          <p:sp>
            <p:nvSpPr>
              <p:cNvPr id="439" name=""/>
              <p:cNvSpPr/>
              <p:nvPr/>
            </p:nvSpPr>
            <p:spPr>
              <a:xfrm>
                <a:off x="3816360" y="2529000"/>
                <a:ext cx="1547640" cy="539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92720" y="2730600"/>
                <a:ext cx="395280" cy="1429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322960" y="2924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35320" y="3072600"/>
            <a:ext cx="3009960" cy="1510200"/>
            <a:chOff x="2335320" y="3072600"/>
            <a:chExt cx="3009960" cy="1510200"/>
          </a:xfrm>
        </p:grpSpPr>
        <p:sp>
          <p:nvSpPr>
            <p:cNvPr id="443" name=""/>
            <p:cNvSpPr/>
            <p:nvPr/>
          </p:nvSpPr>
          <p:spPr>
            <a:xfrm flipV="1">
              <a:off x="2335320" y="3072600"/>
              <a:ext cx="3009960" cy="151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95960" y="3700440"/>
              <a:ext cx="628200" cy="308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583240" y="2060640"/>
                <a:ext cx="3537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E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6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35280" y="26028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"/>
          <p:cNvGrpSpPr/>
          <p:nvPr/>
        </p:nvGrpSpPr>
        <p:grpSpPr>
          <a:xfrm>
            <a:off x="2090880" y="2133720"/>
            <a:ext cx="2147400" cy="2501640"/>
            <a:chOff x="2090880" y="2133720"/>
            <a:chExt cx="2147400" cy="2501640"/>
          </a:xfrm>
        </p:grpSpPr>
        <p:grpSp>
          <p:nvGrpSpPr>
            <p:cNvPr id="90" name=""/>
            <p:cNvGrpSpPr/>
            <p:nvPr/>
          </p:nvGrpSpPr>
          <p:grpSpPr>
            <a:xfrm>
              <a:off x="2325600" y="2536560"/>
              <a:ext cx="1535040" cy="2053800"/>
              <a:chOff x="2325600" y="2536560"/>
              <a:chExt cx="1535040" cy="20538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32560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291960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09088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180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40000" y="459432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49800" y="465300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1080" y="3429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50920" y="2565000"/>
            <a:ext cx="3240" cy="2050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51640" y="2529000"/>
                <a:ext cx="1193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4824000" y="189000"/>
            <a:ext cx="3579840" cy="825480"/>
            <a:chOff x="4824000" y="189000"/>
            <a:chExt cx="3579840" cy="825480"/>
          </a:xfrm>
        </p:grpSpPr>
        <p:sp>
          <p:nvSpPr>
            <p:cNvPr id="101" name=""/>
            <p:cNvSpPr/>
            <p:nvPr/>
          </p:nvSpPr>
          <p:spPr>
            <a:xfrm>
              <a:off x="5477040" y="18900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24000" y="54936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4000" y="1125360"/>
            <a:ext cx="3579840" cy="825480"/>
            <a:chOff x="4824000" y="1125360"/>
            <a:chExt cx="3579840" cy="825480"/>
          </a:xfrm>
        </p:grpSpPr>
        <p:sp>
          <p:nvSpPr>
            <p:cNvPr id="104" name=""/>
            <p:cNvSpPr/>
            <p:nvPr/>
          </p:nvSpPr>
          <p:spPr>
            <a:xfrm>
              <a:off x="5477040" y="112536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824000" y="148572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40720" y="2241720"/>
                <a:ext cx="858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19640" y="22536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076840" y="2147760"/>
            <a:ext cx="2147040" cy="2501640"/>
            <a:chOff x="2076840" y="2147760"/>
            <a:chExt cx="2147040" cy="2501640"/>
          </a:xfrm>
        </p:grpSpPr>
        <p:grpSp>
          <p:nvGrpSpPr>
            <p:cNvPr id="112" name=""/>
            <p:cNvGrpSpPr/>
            <p:nvPr/>
          </p:nvGrpSpPr>
          <p:grpSpPr>
            <a:xfrm>
              <a:off x="2311560" y="2543040"/>
              <a:ext cx="1535040" cy="2054160"/>
              <a:chOff x="2311560" y="2543040"/>
              <a:chExt cx="1535040" cy="20541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2311560" y="2543040"/>
                <a:ext cx="1535040" cy="205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902320" y="3522240"/>
                <a:ext cx="218880" cy="30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076840" y="412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7400" y="21477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3816000" y="2492280"/>
            <a:ext cx="34920" cy="2124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40000" y="4616280"/>
            <a:ext cx="15112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9080" y="465300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080" y="3105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42080" y="333360"/>
                <a:ext cx="15746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72000" y="22536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27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97720" y="2665440"/>
            <a:ext cx="2107440" cy="2501640"/>
            <a:chOff x="2097720" y="2665440"/>
            <a:chExt cx="2107440" cy="2501640"/>
          </a:xfrm>
        </p:grpSpPr>
        <p:grpSp>
          <p:nvGrpSpPr>
            <p:cNvPr id="133" name=""/>
            <p:cNvGrpSpPr/>
            <p:nvPr/>
          </p:nvGrpSpPr>
          <p:grpSpPr>
            <a:xfrm>
              <a:off x="2332080" y="3068280"/>
              <a:ext cx="1535040" cy="2053800"/>
              <a:chOff x="2332080" y="3068280"/>
              <a:chExt cx="1535040" cy="20538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332080" y="3068280"/>
                <a:ext cx="1535040" cy="20538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926080" y="3912840"/>
                <a:ext cx="321840" cy="423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828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3080" y="112536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al vectors or equivalent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5800" y="3068640"/>
            <a:ext cx="345744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651640" y="26028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≠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46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97720" y="2665440"/>
            <a:ext cx="2107080" cy="2501640"/>
            <a:chOff x="2097720" y="2665440"/>
            <a:chExt cx="2107080" cy="2501640"/>
          </a:xfrm>
        </p:grpSpPr>
        <p:sp>
          <p:nvSpPr>
            <p:cNvPr id="152" name=""/>
            <p:cNvSpPr/>
            <p:nvPr/>
          </p:nvSpPr>
          <p:spPr>
            <a:xfrm flipV="1">
              <a:off x="2332080" y="3068640"/>
              <a:ext cx="1535040" cy="2054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92040" y="3836880"/>
              <a:ext cx="190440" cy="279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792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11280" y="11606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544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3068640"/>
            <a:ext cx="414000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3933720"/>
            <a:ext cx="4932720" cy="1191240"/>
          </a:xfrm>
          <a:prstGeom prst="rect">
            <a:avLst/>
          </a:prstGeom>
          <a:solidFill>
            <a:srgbClr val="cc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TE: 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erses th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16720" y="1208160"/>
                <a:ext cx="2749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A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3,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820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528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5280" y="4834080"/>
                <a:ext cx="153036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1800" y="1052640"/>
            <a:ext cx="3506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1176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6884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68840" y="5045040"/>
                <a:ext cx="15303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24640" y="1052640"/>
            <a:ext cx="421920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ub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890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91600" y="873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ngle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99320" y="2373480"/>
                <a:ext cx="1089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81600" y="317340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9680" y="148104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92480" y="1589040"/>
            <a:ext cx="3033000" cy="1857240"/>
            <a:chOff x="1392480" y="1589040"/>
            <a:chExt cx="3033000" cy="1857240"/>
          </a:xfrm>
        </p:grpSpPr>
        <p:grpSp>
          <p:nvGrpSpPr>
            <p:cNvPr id="177" name=""/>
            <p:cNvGrpSpPr/>
            <p:nvPr/>
          </p:nvGrpSpPr>
          <p:grpSpPr>
            <a:xfrm>
              <a:off x="1733400" y="1985760"/>
              <a:ext cx="2232000" cy="1224000"/>
              <a:chOff x="1733400" y="1985760"/>
              <a:chExt cx="2232000" cy="122400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1733400" y="1985760"/>
                <a:ext cx="223200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597040" y="2488680"/>
                <a:ext cx="468360" cy="2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392480" y="2925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9000" y="1589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1040" y="1341360"/>
            <a:ext cx="599040" cy="1832400"/>
            <a:chOff x="1751040" y="1341360"/>
            <a:chExt cx="599040" cy="1832400"/>
          </a:xfrm>
        </p:grpSpPr>
        <p:grpSp>
          <p:nvGrpSpPr>
            <p:cNvPr id="183" name=""/>
            <p:cNvGrpSpPr/>
            <p:nvPr/>
          </p:nvGrpSpPr>
          <p:grpSpPr>
            <a:xfrm>
              <a:off x="1751040" y="1877400"/>
              <a:ext cx="576000" cy="1296360"/>
              <a:chOff x="1751040" y="1877400"/>
              <a:chExt cx="576000" cy="129636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1751040" y="1877400"/>
                <a:ext cx="576000" cy="1296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73880" y="2410920"/>
                <a:ext cx="120600" cy="2671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1340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11200" y="1883160"/>
            <a:ext cx="1622520" cy="76680"/>
            <a:chOff x="2311200" y="1883160"/>
            <a:chExt cx="1622520" cy="76680"/>
          </a:xfrm>
        </p:grpSpPr>
        <p:sp>
          <p:nvSpPr>
            <p:cNvPr id="188" name=""/>
            <p:cNvSpPr/>
            <p:nvPr/>
          </p:nvSpPr>
          <p:spPr>
            <a:xfrm>
              <a:off x="2311200" y="1883160"/>
              <a:ext cx="1622520" cy="766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2200" y="1914840"/>
              <a:ext cx="335160" cy="17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91480" y="2351160"/>
                <a:ext cx="1496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56160" y="2359080"/>
                <a:ext cx="1398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90520" y="372420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ogram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3800" y="4241880"/>
            <a:ext cx="3033000" cy="2104920"/>
            <a:chOff x="793800" y="4241880"/>
            <a:chExt cx="3033000" cy="2104920"/>
          </a:xfrm>
        </p:grpSpPr>
        <p:grpSp>
          <p:nvGrpSpPr>
            <p:cNvPr id="194" name=""/>
            <p:cNvGrpSpPr/>
            <p:nvPr/>
          </p:nvGrpSpPr>
          <p:grpSpPr>
            <a:xfrm>
              <a:off x="793800" y="4241880"/>
              <a:ext cx="3033000" cy="2104920"/>
              <a:chOff x="793800" y="4241880"/>
              <a:chExt cx="3033000" cy="21049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93800" y="4489560"/>
                <a:ext cx="3033000" cy="1857240"/>
                <a:chOff x="793800" y="4489560"/>
                <a:chExt cx="3033000" cy="18572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1134720" y="4886280"/>
                  <a:ext cx="2232000" cy="1224000"/>
                  <a:chOff x="1134720" y="4886280"/>
                  <a:chExt cx="2232000" cy="12240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V="1">
                    <a:off x="1134720" y="4886280"/>
                    <a:ext cx="223200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1998360" y="5389200"/>
                    <a:ext cx="468360" cy="252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793800" y="582624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70320" y="448956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152360" y="4241880"/>
                <a:ext cx="599040" cy="1833480"/>
                <a:chOff x="1152360" y="4241880"/>
                <a:chExt cx="599040" cy="18334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152360" y="4778640"/>
                  <a:ext cx="576000" cy="1296720"/>
                  <a:chOff x="1152360" y="4778640"/>
                  <a:chExt cx="576000" cy="1296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>
                    <a:off x="1152360" y="4778640"/>
                    <a:ext cx="576000" cy="12967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1375200" y="5311800"/>
                    <a:ext cx="120600" cy="2671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1314720" y="4241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169640" y="5449680"/>
              <a:ext cx="1668600" cy="761400"/>
              <a:chOff x="1169640" y="5449680"/>
              <a:chExt cx="1668600" cy="7614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169640" y="6134400"/>
                <a:ext cx="1622520" cy="76680"/>
                <a:chOff x="1169640" y="6134400"/>
                <a:chExt cx="1622520" cy="76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169640" y="6134400"/>
                  <a:ext cx="1622520" cy="76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792080" y="6165720"/>
                  <a:ext cx="334800" cy="176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4316400">
                <a:off x="2394720" y="5708880"/>
                <a:ext cx="61128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168200" y="5449320"/>
            <a:ext cx="1668600" cy="761400"/>
            <a:chOff x="1168200" y="5449320"/>
            <a:chExt cx="1668600" cy="761400"/>
          </a:xfrm>
        </p:grpSpPr>
        <p:grpSp>
          <p:nvGrpSpPr>
            <p:cNvPr id="212" name=""/>
            <p:cNvGrpSpPr/>
            <p:nvPr/>
          </p:nvGrpSpPr>
          <p:grpSpPr>
            <a:xfrm>
              <a:off x="1168200" y="6134040"/>
              <a:ext cx="1622520" cy="76680"/>
              <a:chOff x="1168200" y="6134040"/>
              <a:chExt cx="1622520" cy="7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68200" y="6134040"/>
                <a:ext cx="1622520" cy="76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0640" y="6165360"/>
                <a:ext cx="334800" cy="176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rot="4316400">
              <a:off x="2393280" y="5708520"/>
              <a:ext cx="6112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2360" y="4781520"/>
            <a:ext cx="576360" cy="1296720"/>
            <a:chOff x="1152360" y="4781520"/>
            <a:chExt cx="576360" cy="1296720"/>
          </a:xfrm>
        </p:grpSpPr>
        <p:sp>
          <p:nvSpPr>
            <p:cNvPr id="217" name=""/>
            <p:cNvSpPr/>
            <p:nvPr/>
          </p:nvSpPr>
          <p:spPr>
            <a:xfrm flipV="1">
              <a:off x="1152360" y="4781520"/>
              <a:ext cx="576360" cy="1296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75200" y="5314680"/>
              <a:ext cx="120960" cy="267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02160" y="614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54600" y="5118120"/>
                <a:ext cx="1089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750000" y="5089680"/>
                <a:ext cx="142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00720" y="5119560"/>
                <a:ext cx="1427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-50400" y="61261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0" y="439740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7965E-006 L 0.0592 -0.19404 E">
                                      <p:cBhvr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75763E-007 L 0.17726 0.01573 E">
                                      <p:cBhvr>
                                        <p:cTn id="2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4:59:47Z</dcterms:created>
  <dc:creator>MOEUSER</dc:creator>
  <dc:description/>
  <dc:language>en-US</dc:language>
  <cp:lastModifiedBy>Lee Lik Teck</cp:lastModifiedBy>
  <dcterms:modified xsi:type="dcterms:W3CDTF">2007-08-01T00:23:20Z</dcterms:modified>
  <cp:revision>195</cp:revision>
  <dc:subject/>
  <dc:title>Slide 1</dc:title>
</cp:coreProperties>
</file>